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058-036F-4B9E-9DC1-86671A89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0F1-A01F-4B00-8B42-CF6926B8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30554-AAD8-4599-8297-CC02A269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30CDC-0E42-4978-B4A3-FFBCDF67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DE496-9B92-43CE-8D9C-5AA0F6C0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6772F-5065-4647-A902-7FA02FCA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C652C-6D46-44F5-863A-8CDCB093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987B2-4C5A-4DD6-80E6-44E0138B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88AD1-F4E6-4509-8701-E0B75177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873BF-6D52-47FF-B7A4-E8B450F8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8CCFF-957D-4D35-95CD-DD748077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94470-5C27-46CA-968A-9E48B83D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FA9-3BFB-4A01-A356-5D3DE70C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9D76E-8CEB-46F7-B26C-2608A3D1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AD0B9-66ED-4F7A-8244-5F80DEB3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C8FB6-D402-465B-BE96-FAB2068F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E78EA-C12D-4132-9C8D-5E30EF8E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F701E-A5C3-470E-9380-2D8B96F5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4C596-E2A5-4770-A722-A4E1381F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8404E-82B0-470D-8246-FE2EBC0C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B2A9F-A0FA-48CD-8102-D26A515A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EAFD8-5A3E-4029-A9CF-6E3A1C0E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9E038-AFA5-452A-ACC9-E7C6D505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3D9-3D57-4BF5-9D72-DA752573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50B12-AA0C-4B0E-A26D-A2AD2C46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1CCB7-8ADB-4EC1-A720-522F9063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7AA7A-0001-487E-8834-8882CCEB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FC7B8-39A9-416A-A940-3E1FF4B9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56371-DBA7-41E1-8047-892EBBEB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16499-F563-4A93-93A1-FD81155E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73CD2-BED4-47B6-BF71-A8909684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2811D-5619-43A7-BA9B-D0DF4A48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2F644-6AE9-4360-8E72-E215EFB3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CFDEE-596F-4F1D-9ADE-1C0DC9BE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F88F-A0D6-4984-910C-BD8EC959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CB121-7307-47B4-8006-818A00E3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ED9D7-56DF-4802-99B3-56DAB1A6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F7C91-DC41-4133-AF2E-1FD571AB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9298D-2AE4-44B3-9847-CE4245F5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7A7A4-B4AE-49F4-BB38-BDE71262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E9CC0-5097-4E4E-AC04-EFA44EA4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C80DD-B9CB-4D46-89D5-57A22FCA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8FB1B-3BF5-49D0-9D7F-3EF154B5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A2568-3259-4F14-9A48-DFD2360E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0016B-918D-452A-B1F7-4D1E988E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1C7E-17D2-439F-9490-D1106DFA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0DDF0-6ED6-46BA-B114-7F639CEE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CF963-5A2A-4665-BBBB-BD2A5C4B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081B8-F590-4644-83FA-5B578DEE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F4845-D27D-4597-A251-72EF1114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4D266-8DAA-4F3B-B214-84D02BBE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15F72-46D3-4386-933D-BE844265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38409F-C73B-4159-8CE6-CEC58CBC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76AFD-05F9-4D9B-AC8B-83DE81AB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C5573-816D-40FE-AD94-4CF30080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80A0C-E598-4C38-8FB4-3A59114F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B654-CFEE-4CB2-812D-A8A5C90A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713A3-A8E1-454B-9DA5-5D9F6788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EA09F-B8A3-418D-80B2-ACA1E9FC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8E087-4726-4089-B632-03119DFF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1CF58-CCAA-4495-AE7F-2978483E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3DB3E-904C-4174-BF6A-A82AA7C5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49465-C212-400B-820E-5C6093E0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661AD-0B17-4B64-B331-775F6459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A4C70C-DC23-42D5-BE8F-043F407F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E941F-D675-4713-9B4C-40562C26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5B82F7-D460-462A-A43F-D54F687E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3F87-2C9E-49A1-8035-41C22C88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3569D6-965A-4D9D-9055-1F053803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C8E1C-90D3-4CEC-9BF9-3AA8BF9E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7B6A8-FE05-4A39-B977-3FE1D401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257E23-CA76-4709-8AE6-6E44F06A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38FDAA-6DF7-47A2-BB11-28483B1E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2BAD4-536C-4E19-AB66-712CE1EC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87961B-40D9-4A66-97E7-372B745A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89EA6-B708-4088-8718-D71F2132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ABDAC-3ED6-4E11-98D5-23B12A59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7B1780-C556-4C32-96B6-4F0B81B0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6B13-8CEF-4C3A-8823-A4CCF665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D799B-9FFD-47E3-B62C-FE1ECF40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A65978-91E9-4611-A04C-B9AFE04E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EF4C00-66CC-4133-87A4-D6F82B1E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6A3DF8-8616-4AA6-B083-04BC0C5F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E520FC-592B-4346-B735-8AEE73A4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1E4002-D059-4E5D-A523-9E9E4A4D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5A1304-7E1D-4F20-81AE-2624E11C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5564DE-3558-4A4E-AB2D-330967BC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9BD2C8-E6B3-4627-83A4-EE6009C3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1FAF5-1EAC-48AE-95F1-DD4BFB0A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C03E-41CC-44D1-98AA-F5EE0D35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28BE5C-9B39-4C8C-B8FD-9BAB6A06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4DCF2-2B7E-4DC9-A71D-3D776252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A7B61E-2752-4A30-8B54-AFBB7EEE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36FCB0-0F97-4299-AF11-88D86FB7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1BF3EC-3886-490A-B1A3-2CF7CFCB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BB59DE-2553-4D8C-8AAE-19497FAC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61B2C6-365C-4F25-A5FA-B44012AE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B19C19-1B69-4F2C-8225-858E3399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64928A-673A-406D-8AB7-FED09BC5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DFCCFC-0846-470A-B852-FCADC261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1619-4298-4ADA-ACC7-68F610AB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E18A2A-6727-42FB-A852-08D96EE1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C05B2F-4A27-4BCA-94F3-75E6A861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C8C0BD-0282-448E-9BD2-76967FD3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7D118-02EB-45A8-9A1E-8A1E04C5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12C8F3-7506-4C8A-A084-626341AF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314DA4-A6BA-4C6E-9B94-3BA53B06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F57B51-6484-42FB-BB47-99BE7C68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E596AB-51C1-431E-B16B-1F61DE7A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1B0CD5-D174-4F58-9394-57BA2D25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3B0B4B-6794-4E8A-8AD7-4AF09C15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112-2BED-4CE8-B23C-C860AE9A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C8DB-0041-43D9-99CD-804E9F03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5D87A4-0F82-4589-8D6C-49983E46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64B4EF-5CE8-4430-94FF-94B10D02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58C551-B0B9-43CE-98FF-76EFCB14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53D61B-9B02-4AFB-8193-826AF4DA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D8EC58-99D8-46E4-909E-2D2F8B19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9E62A0-FDF5-48BA-A7DE-4C4353E6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1E5D04-DD51-4651-B20A-66AC893E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74F2DC-0BA7-4AB2-A8D4-1124934F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E8CD28-64BA-4EEB-8869-1EFC1695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29A094-4B5F-40A9-8D32-9675DAE8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147E-B714-4866-8AE0-A7D2C7ED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4F1A9-DB65-4434-A403-36092868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B96204-124C-48BF-B565-CD48E05E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978B96-4910-42CB-9EFD-9B1B6810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22109F-2CD1-4E4E-A01E-5A7F92E5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D3EE47-A723-47DF-A034-698D2CE5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DE71EC-7CD7-4734-BC6D-8CEB01D2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4A70D7-498E-4DB2-8CF3-74B280E9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FE41F9-D4B7-4555-8564-BC26E9EF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E4A3F7-468E-45A0-B8E3-E42B9F04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B3BF4E-D2A6-4839-B178-E6A6A8BC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3336-C029-435C-BCDA-28899230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3818C6-D7BE-4916-BE4C-3479C212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C1FDAE-107A-4F89-A276-AA928D4A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F0D53B-5B98-4B5E-8019-7DD7329C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A342B5-108C-4F0E-A68C-461A4D44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261C81-2D66-4393-81F0-94F1C590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4A2CEC-CB68-47BC-B604-6997B0CB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54B3A4-3CDB-4CD3-9800-C3206971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5A9834-D924-4A91-9FAB-3BC5C7BA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EA8F41-4B11-4FBE-83F7-6C0264CA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359C04-D57B-4D36-B72B-660B6BAF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540E-46FC-411B-B30B-292BE898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76EAB2-4CDF-4FC5-ADBB-3582AB25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3ED511-20BC-441C-9E91-F26FCEBE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2DEEE5-9344-449A-BDB7-C5134960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D563D1-141B-4C2E-A124-0C8530A5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A3DBCF-6C3A-4A40-A218-95192049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28F665-990E-4146-A6A6-A71D48F9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5B271A-2F50-4DC8-A47F-A267CE60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70C912-FA4E-4EFE-8123-3E3300BA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4FFEF5-A808-46CC-90CC-7FCAB768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C763F1-36E7-4A36-BC34-C97D8D97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A4A4-ED7D-4967-A6BC-7246DEFB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479A09-4F89-47ED-A183-5CF17BC2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7FAC9F-6527-4199-83ED-42DBA9E9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3CFCC9-6C65-43EE-B648-7B974E94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ACE4F4-7F53-4D23-A281-F509E30F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C042E7-771F-4EDB-A48F-CD98BE37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5FC2E0-E385-4861-A401-C73742EA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A759D3-4EC3-431F-A89B-1C5E946F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2B6FA8-9E87-4E53-B296-0BD6261C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B676E2-5C6D-446D-9BFA-EF7AD9FD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96CA5E-DF54-4C16-BFF6-FDA1AD27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034C6-D0C8-4401-A1DB-F3C05CC8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F1F1B5-74C7-4173-8A1B-3C6E4805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04A34C-4771-4195-9F6A-B68888C7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9027B3-1857-410B-9496-F66B427B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AEC9D3-E16B-4611-B833-DEB09450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0B27AC-0CD5-4EE7-8FE2-F4AB6807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60411F-3B33-4779-A8FD-8C5BEF63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CA9062-DAA0-40D8-AB13-3B057D40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BF776B-848C-4FE5-A204-A51A8A86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18DADE-7B81-4C23-B6A1-7AD6F7C1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37E8D7-93B9-4F0C-BA38-5A2F13EE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5E64D-D701-4D71-83DA-3C00DED2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1E5DAD-45FC-4E1B-A6D3-1ECF03A2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6C2F9D-187D-4875-AE6E-D1555C32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5BADE5-8222-4A16-940B-6F80157D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979C88-05D7-4C12-AF5A-DE6B985C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C26300-E648-4A3F-814F-446ECF27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752CF0-B724-4D1D-AF32-4B818F89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0F97C3-ADFA-44DE-95D4-E149672E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BC0E30-F33E-47AE-A750-B737ABC3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AF04C7-0180-41C1-B4D4-0046A093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092CDD-403D-4611-AB11-C872C5E5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C710B-8817-41A4-B121-A069FB12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79AD94-FA92-4951-A5CB-3D241A85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C820B6-549B-43F9-B33D-33CDCF6D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161B32-59F1-4AAE-A785-EDDD63B9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E4477E-9AD4-47AD-B24B-61E623D2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02C1E0-6DAB-426C-8329-9FEF6932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906B4C-1B8D-426E-B334-25DD33FD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68773D-8197-4779-88F8-CEFDB311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571774-303C-42D8-A714-37E8CC88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985A07-26D8-4BE7-B548-E9FF2C9F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5A447A-0087-4C1A-AC17-2B9FB423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505EF-9256-4708-8D4A-5EF1BCBD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C4128E-BB0F-417F-86CA-EEA33363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C71D16-5304-44D0-B858-A814DE52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CCD59A-A6FC-476C-88BE-E1BF67EF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2BF395-8C49-4B60-BA06-12935EDD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FE94EE-AEFB-4820-9332-B87A2587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5132B7-444B-4AAF-A55C-81630F02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1905D2-A248-4E1D-9989-6820E16B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42D120-7589-4331-BF5E-36DBB171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9E283F-4A32-47CC-8891-EE8B6ABA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0D5DB8-F2A3-4D4C-A99B-DA7D4037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9800C-776F-4FBF-AEE5-578BDECE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6A7D91-D2E9-465D-A526-50C9FE00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050BCE-5D5F-468D-B850-CFB760A5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1C0588-E284-4B13-B0F8-A0C3934F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D4B260-6903-4FAB-B1C9-8987E05B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D5C461-080B-412A-B7F7-7F0D0234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053E20-988A-4E2E-A3E1-38B6AAD0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F2DD7B-FCEA-461D-AE4A-6E5C3A2B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F5319B-E114-4C2D-BFA8-444AD2CF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928219-55A6-4EC0-90DE-97ECD9A0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3898B7-9291-45C4-8C5E-BBC34AC3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49C-42D8-4A2C-8026-4F98BE5F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F12AC-8F7C-4603-AA77-AE68A34F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D013D6-A6DD-4F4D-9729-513C9CD9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FCAC10-896E-4809-922E-4334DF1A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9ACACE-CC8C-432E-99DE-2CF44976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42F60D-EE34-47E9-9215-A29EA13E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6CEE88-2F3F-43E5-83AC-7AEFCE13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BF1255-2015-49C8-90A8-1E3C2B3D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42F531-6F9B-45A8-B119-F2E7B758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6FB734-8B94-4972-96E6-FAF5F23C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66C04C-78E0-4752-A8F9-29F2F0C2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BDBFDC-594D-42A5-9DB9-0C17946D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375A5-5307-435A-99F2-594E15BA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F6019A-0D96-4D64-AEBE-8F70CE00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426E04-50B5-41F3-BE2A-6C90E6DE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F0B798-74CB-4FAB-ADE5-A72EE965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90C0C2-7D8A-4677-BC31-F26EC36E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CD9F01-250C-4D5E-88F6-D8B2238D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C931A8-F1E8-4004-BF58-C0D0D8E4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BA17F5-FF66-43CF-8298-4AB21FEF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344A3D-D963-4336-BC34-55282FAE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5D5003-C8F6-42AE-8746-FEB35DDD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428034-9913-4533-B346-886BCEF4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01CAA-3C3B-4A02-B14D-758C3E69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4E5893-C20A-4EEE-BEC0-B8C13FE5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C82C04-9373-4C42-AB74-6E3218E0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F7BCF6-1EEA-44B0-A233-01ED4EE5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54E5B8-4924-40FE-B8D7-5F6D2DEC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7EE49C-12AC-4281-891A-CA798A53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8223C0-4831-4B9B-AB11-2011C455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C5C6F9-8544-4D60-B0FB-527048DF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07E3B1-9E56-4FB5-A17B-CA627B8E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FC4F6B-A4F5-4329-95F2-58DC7E3D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18CB76-A5E9-41CE-B2FF-4A8BE71E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46300-7DF2-40E5-B31C-8136C82F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70624A-8E5C-4D71-B328-4EBC2A12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337B06-CD12-4F7D-9A64-C65CDAEB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73F253-775F-4E0D-A805-574A2F68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049BE7-1CD1-4B16-AC28-D4BA1F63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A3DC8A-E839-4252-B323-9C994D30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108814-8F8C-4C20-8EBD-67340560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CB1026-8337-4AED-A237-EB99939D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D895ED-47AD-40C4-837A-B3FE4734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63DAD4-C866-44C5-87FB-C2F8AE90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AF24D5-04E9-4B3E-ACFB-89AB3A00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C7103-010F-4EB8-A535-D74510AE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8E3061-449E-4693-9D5A-CDC38416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4E8CC4-72E8-4B4A-A4B8-E7A27F4E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27A804-0EA3-4193-8DBF-278054D0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CD6D3E-3D36-491D-A5DB-F5C0760A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9F5BE8-5280-4465-A8E3-DD4D3B13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3B41B0-9B9F-4EB6-9865-C8D5E587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860680-A724-4EE5-876A-9A1938E5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9C8B0D-E84E-47DD-B3CA-01A480E2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603401-CC91-488E-B33D-5792A360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495DDB-431A-46FE-9D2E-4CF92F99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E270C-9832-4BA4-8818-776FED75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981701-1251-4F3A-AD7D-7FFB2B49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5EA545-E1BF-454F-AA51-3110BA31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F7160A-BC6A-4DCD-A00F-81FEF0B7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F0FE05-E36E-4520-AED6-CC55BDED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0E5285-1A80-4722-A494-D9AC6F06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D1ED9F-7192-44A9-9772-EB0A1B06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C63B07-58B7-49A3-89F1-A676D874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72BD1F-8C44-4CB2-8A6B-4AB2E0F6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ABCE9F-2486-4610-A510-58B1983F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F27C52-05E7-48AF-9C7D-91DABA0B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C7360-4537-4AB7-B863-77A4DC7C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FD307F-0015-478D-B384-DBD3C547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1734BA-A7DF-47C7-8120-FC28CAB1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FC1151-04F5-470B-84AF-EB57BA27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37EEBA-93EB-4B6D-9B54-0E68860D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D4D2CD-58C5-46FC-B0CB-F2B51C12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4FE98B-DE97-493E-9407-39628E2F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07498B-D978-4DB5-84AD-892940FA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98B82E-4FDA-4941-A5C1-71433BA3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BE3015-8063-46D0-8142-DF8C1BA2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AB609A-7073-42BC-9315-52619D75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494E5-1DD1-45DB-8E6D-005A9003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165FFD-54A5-4233-A796-7037B2AB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8FC518-575C-4626-BD03-C465F6C7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7D0B12-5BA5-4C62-A590-A5875EF1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CCA4A-6F1E-4AD0-9455-1A142C9E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B74AC-4A63-43FE-98ED-1478C672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29F-4131-4E44-BB81-DDFB9D13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06263-0444-499E-AAB5-8E8C32BF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F83F1-BB9D-44AB-A8FA-B00F4CC0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42707-1849-4259-875B-9F714FDE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E2A4E-476C-46B6-99E6-AB9639BC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06B41-C898-432B-AA90-0D70AB6E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02788-4DB3-41C7-BC51-77056A7B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37A97-886B-41BF-BD9C-00C50E33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A47CC-2AE4-4D0A-8885-95F73F3E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4C0A2-FB63-4DCE-A833-3AE7D586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21B1E-669C-475E-BDC9-0E9CA5FB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55E-3551-46FF-8F64-CD523DAA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ED208-1807-4484-8A65-6EC9EE97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1263A-42FE-4255-A26A-93B4D811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E8782-B581-4707-9E4B-E491010B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6A264-3823-48D5-9117-E018F40A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F0CB0-9E8A-4DE4-8A12-95F22C55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99F11-B2A8-44B5-B965-CCA8AC42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9EA24-93CC-454D-8321-41DA1159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50EC6-A3FA-4105-BF53-EC235AC7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99DBB-14B8-4B05-B059-BF516C30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B7C83-E903-49D5-AAD0-88828F77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F8B-F20E-4329-8F0C-F37D99EF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FBF04-8944-42C3-9FC2-1366EE53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3ED25-F678-463F-BE12-27CDC340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636F3-A18C-4DFC-A179-B906E544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D26E4-3FE3-4E79-A14A-B2183CBA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DC686-A61B-4CED-97A1-90953D62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831B2-9BA0-4ACD-B18C-103F9185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0F571-F825-4E9B-8BF9-CC85FEC9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2E64F-4AA2-47AF-81DC-12D8E97B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1004A-3531-4117-AF3F-D11134C7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C2304-A8AA-4B6E-9196-E50D56EE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201-EBE7-401A-8FCB-594B51A2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91532-AE17-4F6C-BD6B-E3DC2FB6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ABF5A-028C-46C4-989B-BAEFC552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C2617-64E0-4213-835A-B65AC26A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FED94-42D5-4D6F-B9C4-1CB91C37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D43D1-CFE3-45AE-A02B-53386616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58C45-7C2B-4D55-ADDF-53EA29A3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8C15D-4659-4BF5-B9F8-AE640FA2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97FDC-71D2-4C0E-AA17-66299ACC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25189-F74D-492E-8996-8CF91887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E9FE5-BADB-4636-BC64-CF5D7857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B64-FB38-4142-94E7-09B65A9F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7A906-1DAB-437F-BBED-AEB25AAE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85DE9-180D-4D0D-BD47-81753CF8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B3049-DDF9-4595-A5FB-51F640C7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CA2C5-BB77-454E-9F25-2DCCE7A8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231A0-C68A-49AD-AB29-B06271B1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55395-ED9F-4EFD-A2B1-3F551622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DE793-D3CB-41AE-8882-5CAC30F8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EB43E-DA9A-4B0C-8F43-F42EF8EC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A553F-EE35-44C0-8ECD-D5115527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9DE76-338D-400C-8A5A-D933B723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9B6-8FEA-47AA-BF91-271E27A6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352DC-D53D-4153-9A8E-E7994AAF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36259-AAB1-46E2-B0C5-F1070CA9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75F73-5540-406E-9AE3-342A99D6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90471-3349-4C01-A9EB-FB272AB5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5A938-E0FD-4BEB-A46F-337662F8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BBA8E-0524-4024-877F-3F595966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52EFF-B407-47B1-9931-E352E825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39BE9-DBF3-4895-BC68-453F274E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553DD-8CD6-4783-970C-23A22446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F8AA1-FA59-4ED3-9811-4F833F95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2234-DC03-4613-80F1-8343C85CD2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2175-D4FE-4484-A869-ED738C0324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0077-A635-415B-889A-4E266A140B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5DA4-18B6-4ACB-B466-E287F7F090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DC3A-3E6F-4404-8DC0-7E568725E6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2E3F-0E43-4779-B1DF-C634F7B33F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3A3F-D927-45D9-B7A4-26194E95EE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411B-AB5D-4D7A-92B3-9ED3D9B338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2B21-E60C-4F9A-AE3C-244869DE49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CC65-317D-4A48-ADA2-FD37A4DC64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DB0A-FA4A-4073-9847-AB07EDD486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8D54-0631-4554-AFFB-FCA0763E48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C076-BF0C-40FA-801C-FE202327CA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D8F5-9524-4BB9-AC97-BC15A51AC3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3FA8-9EA6-4116-9EF1-B2CBC1A172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9D62-B21F-47DF-A7A0-3AE7FB8CD0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B8C2-BD4D-412A-8BB0-7E9F535A15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7C69-9CAF-405D-A7A3-92E622791F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CC67-8B10-46CE-9083-6D679517EA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104F-96B0-4AB0-B28A-55C033A710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7F84-E40B-444F-B2E7-91681C0951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7653-0958-496E-AECC-4B193F7AD3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EDAF-58F1-459C-9845-792BF28EC3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582F-FC60-4C61-8A4A-1DB078161F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B7FB-35D3-411B-A319-CCBCE7448B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939E-D791-4B54-B72B-FCC34DDCA5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D553-B775-4D15-AC74-8CFC1523DB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07D3-5FA5-4F26-B4B1-AC5787AA91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11BE-CFE6-498B-BF6E-B8BB161E11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4D71-1FF1-4BEE-86F9-EE44165D2B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B07E-ECDB-4293-854B-41FDB19DA2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FBFF-9DEC-44BA-936C-8ECDE53608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0C33-BD64-4D96-B56F-5D4263258C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5722-7371-4FF1-BA13-4B44F73315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E9E3-91BB-4377-ADE9-707802CC0B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433B-BA88-475B-85CB-9A8F82A61B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33B9-EBE2-413B-9902-3CEE836DC3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CE99-04BC-4594-A5F3-3044504E92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3B1D-4C89-4404-B665-07DE8021A1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F2CA-2281-47C4-B1CF-0207BE1B22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8045-EB93-4531-99F8-C5A0047C35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5C6D-0FD6-41B5-A180-72EFFB71EC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76D0-8C9B-41A7-B680-2206952B56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7069-2AFD-440B-8EC2-C581DD5D14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DEC3-980D-4AC0-9F41-1FD2D63F56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21D8-193D-481E-AC0F-48C89153B2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D991-B1A4-4F47-B5DA-A711A6BAF8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0D81-D755-4358-9D75-FF4C68B198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0F83-938F-4A51-B757-C507C4CC58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2875-5B80-49D1-A339-787B9B3278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57320" y="2247840"/>
            <a:ext cx="8829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16737" descr=""/>
          <p:cNvPicPr/>
          <p:nvPr/>
        </p:nvPicPr>
        <p:blipFill>
          <a:blip r:embed="rId1"/>
          <a:stretch/>
        </p:blipFill>
        <p:spPr>
          <a:xfrm>
            <a:off x="138240" y="976320"/>
            <a:ext cx="8867520" cy="490536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16738"/>
          <p:cNvSpPr/>
          <p:nvPr/>
        </p:nvSpPr>
        <p:spPr>
          <a:xfrm>
            <a:off x="8244000" y="1557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15713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8772480" cy="466560"/>
          </a:xfrm>
          <a:prstGeom prst="rect">
            <a:avLst/>
          </a:prstGeom>
          <a:ln w="0">
            <a:noFill/>
          </a:ln>
        </p:spPr>
      </p:pic>
      <p:pic>
        <p:nvPicPr>
          <p:cNvPr id="1453" name="图片 115714" descr=""/>
          <p:cNvPicPr/>
          <p:nvPr/>
        </p:nvPicPr>
        <p:blipFill>
          <a:blip r:embed="rId2"/>
          <a:stretch/>
        </p:blipFill>
        <p:spPr>
          <a:xfrm>
            <a:off x="352440" y="1833480"/>
            <a:ext cx="8439120" cy="319104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15715"/>
          <p:cNvSpPr/>
          <p:nvPr/>
        </p:nvSpPr>
        <p:spPr>
          <a:xfrm>
            <a:off x="8244000" y="1268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4689" descr=""/>
          <p:cNvPicPr/>
          <p:nvPr/>
        </p:nvPicPr>
        <p:blipFill>
          <a:blip r:embed="rId1"/>
          <a:stretch/>
        </p:blipFill>
        <p:spPr>
          <a:xfrm>
            <a:off x="147600" y="2176560"/>
            <a:ext cx="8848800" cy="250488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4690"/>
          <p:cNvSpPr/>
          <p:nvPr/>
        </p:nvSpPr>
        <p:spPr>
          <a:xfrm>
            <a:off x="8244000" y="21337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3665" descr=""/>
          <p:cNvPicPr/>
          <p:nvPr/>
        </p:nvPicPr>
        <p:blipFill>
          <a:blip r:embed="rId1"/>
          <a:stretch/>
        </p:blipFill>
        <p:spPr>
          <a:xfrm>
            <a:off x="85680" y="1643040"/>
            <a:ext cx="8972640" cy="357192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3666"/>
          <p:cNvSpPr/>
          <p:nvPr/>
        </p:nvSpPr>
        <p:spPr>
          <a:xfrm>
            <a:off x="8172360" y="1700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12641" descr=""/>
          <p:cNvPicPr/>
          <p:nvPr/>
        </p:nvPicPr>
        <p:blipFill>
          <a:blip r:embed="rId1"/>
          <a:stretch/>
        </p:blipFill>
        <p:spPr>
          <a:xfrm>
            <a:off x="128520" y="876240"/>
            <a:ext cx="8886960" cy="510552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12642"/>
          <p:cNvSpPr/>
          <p:nvPr/>
        </p:nvSpPr>
        <p:spPr>
          <a:xfrm>
            <a:off x="8244000" y="9079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1617" descr=""/>
          <p:cNvPicPr/>
          <p:nvPr/>
        </p:nvPicPr>
        <p:blipFill>
          <a:blip r:embed="rId1"/>
          <a:stretch/>
        </p:blipFill>
        <p:spPr>
          <a:xfrm>
            <a:off x="190440" y="1109520"/>
            <a:ext cx="8763120" cy="4638960"/>
          </a:xfrm>
          <a:prstGeom prst="rect">
            <a:avLst/>
          </a:prstGeom>
          <a:ln w="0">
            <a:noFill/>
          </a:ln>
        </p:spPr>
      </p:pic>
      <p:sp>
        <p:nvSpPr>
          <p:cNvPr id="1462" name="矩形 111618"/>
          <p:cNvSpPr/>
          <p:nvPr/>
        </p:nvSpPr>
        <p:spPr>
          <a:xfrm>
            <a:off x="8317080" y="1197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0593" descr=""/>
          <p:cNvPicPr/>
          <p:nvPr/>
        </p:nvPicPr>
        <p:blipFill>
          <a:blip r:embed="rId1"/>
          <a:stretch/>
        </p:blipFill>
        <p:spPr>
          <a:xfrm>
            <a:off x="757080" y="1690560"/>
            <a:ext cx="7629840" cy="347688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10594"/>
          <p:cNvSpPr/>
          <p:nvPr/>
        </p:nvSpPr>
        <p:spPr>
          <a:xfrm>
            <a:off x="1974960" y="46404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0595"/>
          <p:cNvSpPr/>
          <p:nvPr/>
        </p:nvSpPr>
        <p:spPr>
          <a:xfrm>
            <a:off x="3651120" y="4678200"/>
            <a:ext cx="633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0596"/>
          <p:cNvSpPr/>
          <p:nvPr/>
        </p:nvSpPr>
        <p:spPr>
          <a:xfrm>
            <a:off x="5708520" y="4525920"/>
            <a:ext cx="74772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09569" descr=""/>
          <p:cNvPicPr/>
          <p:nvPr/>
        </p:nvPicPr>
        <p:blipFill>
          <a:blip r:embed="rId1"/>
          <a:stretch/>
        </p:blipFill>
        <p:spPr>
          <a:xfrm>
            <a:off x="104760" y="692280"/>
            <a:ext cx="9039240" cy="581004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09570"/>
          <p:cNvSpPr/>
          <p:nvPr/>
        </p:nvSpPr>
        <p:spPr>
          <a:xfrm>
            <a:off x="2558880" y="38019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09571"/>
          <p:cNvSpPr/>
          <p:nvPr/>
        </p:nvSpPr>
        <p:spPr>
          <a:xfrm>
            <a:off x="6300720" y="4282920"/>
            <a:ext cx="858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09572"/>
          <p:cNvSpPr/>
          <p:nvPr/>
        </p:nvSpPr>
        <p:spPr>
          <a:xfrm>
            <a:off x="5734080" y="51354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09573"/>
          <p:cNvSpPr/>
          <p:nvPr/>
        </p:nvSpPr>
        <p:spPr>
          <a:xfrm>
            <a:off x="1581120" y="6062760"/>
            <a:ext cx="1622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108545" descr=""/>
          <p:cNvPicPr/>
          <p:nvPr/>
        </p:nvPicPr>
        <p:blipFill>
          <a:blip r:embed="rId1"/>
          <a:stretch/>
        </p:blipFill>
        <p:spPr>
          <a:xfrm>
            <a:off x="152280" y="757080"/>
            <a:ext cx="8839440" cy="5343840"/>
          </a:xfrm>
          <a:prstGeom prst="rect">
            <a:avLst/>
          </a:prstGeom>
          <a:ln w="0">
            <a:noFill/>
          </a:ln>
        </p:spPr>
      </p:pic>
      <p:sp>
        <p:nvSpPr>
          <p:cNvPr id="1473" name="矩形 108546"/>
          <p:cNvSpPr/>
          <p:nvPr/>
        </p:nvSpPr>
        <p:spPr>
          <a:xfrm>
            <a:off x="5251320" y="4183200"/>
            <a:ext cx="306576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08547"/>
          <p:cNvSpPr/>
          <p:nvPr/>
        </p:nvSpPr>
        <p:spPr>
          <a:xfrm>
            <a:off x="1327320" y="5199120"/>
            <a:ext cx="796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08548"/>
          <p:cNvSpPr/>
          <p:nvPr/>
        </p:nvSpPr>
        <p:spPr>
          <a:xfrm>
            <a:off x="5365800" y="5618160"/>
            <a:ext cx="2806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107521" descr=""/>
          <p:cNvPicPr/>
          <p:nvPr/>
        </p:nvPicPr>
        <p:blipFill>
          <a:blip r:embed="rId1"/>
          <a:stretch/>
        </p:blipFill>
        <p:spPr>
          <a:xfrm>
            <a:off x="361800" y="2562120"/>
            <a:ext cx="8420400" cy="1733760"/>
          </a:xfrm>
          <a:prstGeom prst="rect">
            <a:avLst/>
          </a:prstGeom>
          <a:ln w="0">
            <a:noFill/>
          </a:ln>
        </p:spPr>
      </p:pic>
      <p:pic>
        <p:nvPicPr>
          <p:cNvPr id="1477" name="图片 107522" descr=""/>
          <p:cNvPicPr/>
          <p:nvPr/>
        </p:nvPicPr>
        <p:blipFill>
          <a:blip r:embed="rId2"/>
          <a:stretch/>
        </p:blipFill>
        <p:spPr>
          <a:xfrm>
            <a:off x="971640" y="4437000"/>
            <a:ext cx="990360" cy="419040"/>
          </a:xfrm>
          <a:prstGeom prst="rect">
            <a:avLst/>
          </a:prstGeom>
          <a:ln w="0">
            <a:noFill/>
          </a:ln>
        </p:spPr>
      </p:pic>
      <p:sp>
        <p:nvSpPr>
          <p:cNvPr id="1478" name="矩形 107523"/>
          <p:cNvSpPr/>
          <p:nvPr/>
        </p:nvSpPr>
        <p:spPr>
          <a:xfrm>
            <a:off x="2673360" y="2494080"/>
            <a:ext cx="6075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07524"/>
          <p:cNvSpPr/>
          <p:nvPr/>
        </p:nvSpPr>
        <p:spPr>
          <a:xfrm>
            <a:off x="971640" y="2938320"/>
            <a:ext cx="2305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07525"/>
          <p:cNvSpPr/>
          <p:nvPr/>
        </p:nvSpPr>
        <p:spPr>
          <a:xfrm>
            <a:off x="3892680" y="3827520"/>
            <a:ext cx="4927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07526"/>
          <p:cNvSpPr/>
          <p:nvPr/>
        </p:nvSpPr>
        <p:spPr>
          <a:xfrm>
            <a:off x="1001880" y="43909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42840" y="728640"/>
            <a:ext cx="9058320" cy="540072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8172360" y="3573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06497" descr=""/>
          <p:cNvPicPr/>
          <p:nvPr/>
        </p:nvPicPr>
        <p:blipFill>
          <a:blip r:embed="rId1"/>
          <a:stretch/>
        </p:blipFill>
        <p:spPr>
          <a:xfrm>
            <a:off x="171360" y="1038240"/>
            <a:ext cx="8801280" cy="4781520"/>
          </a:xfrm>
          <a:prstGeom prst="rect">
            <a:avLst/>
          </a:prstGeom>
          <a:ln w="0">
            <a:noFill/>
          </a:ln>
        </p:spPr>
      </p:pic>
      <p:sp>
        <p:nvSpPr>
          <p:cNvPr id="1483" name="矩形 106498"/>
          <p:cNvSpPr/>
          <p:nvPr/>
        </p:nvSpPr>
        <p:spPr>
          <a:xfrm>
            <a:off x="3346560" y="3002040"/>
            <a:ext cx="1296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06499"/>
          <p:cNvSpPr/>
          <p:nvPr/>
        </p:nvSpPr>
        <p:spPr>
          <a:xfrm>
            <a:off x="6737400" y="3446640"/>
            <a:ext cx="2227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06500"/>
          <p:cNvSpPr/>
          <p:nvPr/>
        </p:nvSpPr>
        <p:spPr>
          <a:xfrm>
            <a:off x="1098720" y="3890880"/>
            <a:ext cx="613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06501"/>
          <p:cNvSpPr/>
          <p:nvPr/>
        </p:nvSpPr>
        <p:spPr>
          <a:xfrm>
            <a:off x="6280200" y="47671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06502"/>
          <p:cNvSpPr/>
          <p:nvPr/>
        </p:nvSpPr>
        <p:spPr>
          <a:xfrm>
            <a:off x="3371760" y="5275440"/>
            <a:ext cx="343224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25953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858520" cy="603864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25954"/>
          <p:cNvSpPr/>
          <p:nvPr/>
        </p:nvSpPr>
        <p:spPr>
          <a:xfrm>
            <a:off x="2800440" y="4183200"/>
            <a:ext cx="1050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25955"/>
          <p:cNvSpPr/>
          <p:nvPr/>
        </p:nvSpPr>
        <p:spPr>
          <a:xfrm>
            <a:off x="4387680" y="4678200"/>
            <a:ext cx="2345040" cy="5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25956"/>
          <p:cNvSpPr/>
          <p:nvPr/>
        </p:nvSpPr>
        <p:spPr>
          <a:xfrm>
            <a:off x="3308400" y="5249880"/>
            <a:ext cx="105084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25957"/>
          <p:cNvSpPr/>
          <p:nvPr/>
        </p:nvSpPr>
        <p:spPr>
          <a:xfrm>
            <a:off x="3321000" y="6138720"/>
            <a:ext cx="24750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12697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82200" cy="5638680"/>
          </a:xfrm>
          <a:prstGeom prst="rect">
            <a:avLst/>
          </a:prstGeom>
          <a:ln w="0">
            <a:noFill/>
          </a:ln>
        </p:spPr>
      </p:pic>
      <p:sp>
        <p:nvSpPr>
          <p:cNvPr id="1494" name="矩形 126978"/>
          <p:cNvSpPr/>
          <p:nvPr/>
        </p:nvSpPr>
        <p:spPr>
          <a:xfrm>
            <a:off x="4857840" y="5084640"/>
            <a:ext cx="3674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图片 128001" descr=""/>
          <p:cNvPicPr/>
          <p:nvPr/>
        </p:nvPicPr>
        <p:blipFill>
          <a:blip r:embed="rId1"/>
          <a:stretch/>
        </p:blipFill>
        <p:spPr>
          <a:xfrm>
            <a:off x="1790640" y="2224080"/>
            <a:ext cx="5562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图片 12902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29600" cy="5696280"/>
          </a:xfrm>
          <a:prstGeom prst="rect">
            <a:avLst/>
          </a:prstGeom>
          <a:ln w="0">
            <a:noFill/>
          </a:ln>
        </p:spPr>
      </p:pic>
      <p:sp>
        <p:nvSpPr>
          <p:cNvPr id="1497" name="矩形 129026"/>
          <p:cNvSpPr/>
          <p:nvPr/>
        </p:nvSpPr>
        <p:spPr>
          <a:xfrm>
            <a:off x="2114640" y="728640"/>
            <a:ext cx="2025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29027"/>
          <p:cNvSpPr/>
          <p:nvPr/>
        </p:nvSpPr>
        <p:spPr>
          <a:xfrm>
            <a:off x="1327320" y="3801960"/>
            <a:ext cx="3389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29028"/>
          <p:cNvSpPr/>
          <p:nvPr/>
        </p:nvSpPr>
        <p:spPr>
          <a:xfrm>
            <a:off x="1022400" y="4246560"/>
            <a:ext cx="3693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29029"/>
          <p:cNvSpPr/>
          <p:nvPr/>
        </p:nvSpPr>
        <p:spPr>
          <a:xfrm>
            <a:off x="1022400" y="46782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29030"/>
          <p:cNvSpPr/>
          <p:nvPr/>
        </p:nvSpPr>
        <p:spPr>
          <a:xfrm>
            <a:off x="8172360" y="42339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29031"/>
          <p:cNvSpPr/>
          <p:nvPr/>
        </p:nvSpPr>
        <p:spPr>
          <a:xfrm>
            <a:off x="4794120" y="4691160"/>
            <a:ext cx="2154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29032"/>
          <p:cNvSpPr/>
          <p:nvPr/>
        </p:nvSpPr>
        <p:spPr>
          <a:xfrm>
            <a:off x="6902280" y="5440320"/>
            <a:ext cx="215424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29033"/>
          <p:cNvSpPr/>
          <p:nvPr/>
        </p:nvSpPr>
        <p:spPr>
          <a:xfrm>
            <a:off x="831960" y="5973840"/>
            <a:ext cx="56116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图片 130049" descr=""/>
          <p:cNvPicPr/>
          <p:nvPr/>
        </p:nvPicPr>
        <p:blipFill>
          <a:blip r:embed="rId1"/>
          <a:stretch/>
        </p:blipFill>
        <p:spPr>
          <a:xfrm>
            <a:off x="399960" y="1695600"/>
            <a:ext cx="8344080" cy="3466800"/>
          </a:xfrm>
          <a:prstGeom prst="rect">
            <a:avLst/>
          </a:prstGeom>
          <a:ln w="0">
            <a:noFill/>
          </a:ln>
        </p:spPr>
      </p:pic>
      <p:sp>
        <p:nvSpPr>
          <p:cNvPr id="1506" name="矩形 130050"/>
          <p:cNvSpPr/>
          <p:nvPr/>
        </p:nvSpPr>
        <p:spPr>
          <a:xfrm>
            <a:off x="5987880" y="2544840"/>
            <a:ext cx="254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30051"/>
          <p:cNvSpPr/>
          <p:nvPr/>
        </p:nvSpPr>
        <p:spPr>
          <a:xfrm>
            <a:off x="895320" y="2989440"/>
            <a:ext cx="2668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30052"/>
          <p:cNvSpPr/>
          <p:nvPr/>
        </p:nvSpPr>
        <p:spPr>
          <a:xfrm>
            <a:off x="1042920" y="4724280"/>
            <a:ext cx="3740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图片 131073" descr=""/>
          <p:cNvPicPr/>
          <p:nvPr/>
        </p:nvPicPr>
        <p:blipFill>
          <a:blip r:embed="rId1"/>
          <a:stretch/>
        </p:blipFill>
        <p:spPr>
          <a:xfrm>
            <a:off x="204840" y="1576440"/>
            <a:ext cx="8734320" cy="3705120"/>
          </a:xfrm>
          <a:prstGeom prst="rect">
            <a:avLst/>
          </a:prstGeom>
          <a:ln w="0">
            <a:noFill/>
          </a:ln>
        </p:spPr>
      </p:pic>
      <p:sp>
        <p:nvSpPr>
          <p:cNvPr id="1510" name="矩形 131074"/>
          <p:cNvSpPr/>
          <p:nvPr/>
        </p:nvSpPr>
        <p:spPr>
          <a:xfrm>
            <a:off x="4299120" y="4411800"/>
            <a:ext cx="704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1" name="图片 132097" descr=""/>
          <p:cNvPicPr/>
          <p:nvPr/>
        </p:nvPicPr>
        <p:blipFill>
          <a:blip r:embed="rId1"/>
          <a:stretch/>
        </p:blipFill>
        <p:spPr>
          <a:xfrm>
            <a:off x="566640" y="1371600"/>
            <a:ext cx="8010720" cy="4114800"/>
          </a:xfrm>
          <a:prstGeom prst="rect">
            <a:avLst/>
          </a:prstGeom>
          <a:ln w="0">
            <a:noFill/>
          </a:ln>
        </p:spPr>
      </p:pic>
      <p:sp>
        <p:nvSpPr>
          <p:cNvPr id="1512" name="矩形 132098"/>
          <p:cNvSpPr/>
          <p:nvPr/>
        </p:nvSpPr>
        <p:spPr>
          <a:xfrm>
            <a:off x="590400" y="1338120"/>
            <a:ext cx="7942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132099"/>
          <p:cNvSpPr/>
          <p:nvPr/>
        </p:nvSpPr>
        <p:spPr>
          <a:xfrm>
            <a:off x="438120" y="1820880"/>
            <a:ext cx="7942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32100"/>
          <p:cNvSpPr/>
          <p:nvPr/>
        </p:nvSpPr>
        <p:spPr>
          <a:xfrm>
            <a:off x="577800" y="2278080"/>
            <a:ext cx="794232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矩形 132101"/>
          <p:cNvSpPr/>
          <p:nvPr/>
        </p:nvSpPr>
        <p:spPr>
          <a:xfrm>
            <a:off x="387360" y="3129120"/>
            <a:ext cx="7942320" cy="60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矩形 132102"/>
          <p:cNvSpPr/>
          <p:nvPr/>
        </p:nvSpPr>
        <p:spPr>
          <a:xfrm>
            <a:off x="590400" y="3827520"/>
            <a:ext cx="7942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132103"/>
          <p:cNvSpPr/>
          <p:nvPr/>
        </p:nvSpPr>
        <p:spPr>
          <a:xfrm>
            <a:off x="679320" y="4348080"/>
            <a:ext cx="794232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矩形 132104"/>
          <p:cNvSpPr/>
          <p:nvPr/>
        </p:nvSpPr>
        <p:spPr>
          <a:xfrm>
            <a:off x="603360" y="5033880"/>
            <a:ext cx="7942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3905" descr=""/>
          <p:cNvPicPr/>
          <p:nvPr/>
        </p:nvPicPr>
        <p:blipFill>
          <a:blip r:embed="rId1"/>
          <a:stretch/>
        </p:blipFill>
        <p:spPr>
          <a:xfrm>
            <a:off x="147600" y="1814400"/>
            <a:ext cx="8848800" cy="322920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3906"/>
          <p:cNvSpPr/>
          <p:nvPr/>
        </p:nvSpPr>
        <p:spPr>
          <a:xfrm>
            <a:off x="8244000" y="2421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122881" descr=""/>
          <p:cNvPicPr/>
          <p:nvPr/>
        </p:nvPicPr>
        <p:blipFill>
          <a:blip r:embed="rId1"/>
          <a:stretch/>
        </p:blipFill>
        <p:spPr>
          <a:xfrm>
            <a:off x="204840" y="1990800"/>
            <a:ext cx="8734320" cy="2876400"/>
          </a:xfrm>
          <a:prstGeom prst="rect">
            <a:avLst/>
          </a:prstGeom>
          <a:ln w="0">
            <a:noFill/>
          </a:ln>
        </p:spPr>
      </p:pic>
      <p:sp>
        <p:nvSpPr>
          <p:cNvPr id="1438" name="矩形 122882"/>
          <p:cNvSpPr/>
          <p:nvPr/>
        </p:nvSpPr>
        <p:spPr>
          <a:xfrm>
            <a:off x="8317080" y="2060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121857" descr=""/>
          <p:cNvPicPr/>
          <p:nvPr/>
        </p:nvPicPr>
        <p:blipFill>
          <a:blip r:embed="rId1"/>
          <a:stretch/>
        </p:blipFill>
        <p:spPr>
          <a:xfrm>
            <a:off x="181080" y="1419120"/>
            <a:ext cx="8781840" cy="4019760"/>
          </a:xfrm>
          <a:prstGeom prst="rect">
            <a:avLst/>
          </a:prstGeom>
          <a:ln w="0">
            <a:noFill/>
          </a:ln>
        </p:spPr>
      </p:pic>
      <p:sp>
        <p:nvSpPr>
          <p:cNvPr id="1440" name="矩形 121858"/>
          <p:cNvSpPr/>
          <p:nvPr/>
        </p:nvSpPr>
        <p:spPr>
          <a:xfrm>
            <a:off x="8317080" y="1484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12083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734320" cy="409320"/>
          </a:xfrm>
          <a:prstGeom prst="rect">
            <a:avLst/>
          </a:prstGeom>
          <a:ln w="0">
            <a:noFill/>
          </a:ln>
        </p:spPr>
      </p:pic>
      <p:pic>
        <p:nvPicPr>
          <p:cNvPr id="1442" name="图片 120834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648640" cy="3238560"/>
          </a:xfrm>
          <a:prstGeom prst="rect">
            <a:avLst/>
          </a:prstGeom>
          <a:ln w="0">
            <a:noFill/>
          </a:ln>
        </p:spPr>
      </p:pic>
      <p:sp>
        <p:nvSpPr>
          <p:cNvPr id="1443" name="矩形 120835"/>
          <p:cNvSpPr/>
          <p:nvPr/>
        </p:nvSpPr>
        <p:spPr>
          <a:xfrm>
            <a:off x="8317080" y="2205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19809" descr=""/>
          <p:cNvPicPr/>
          <p:nvPr/>
        </p:nvPicPr>
        <p:blipFill>
          <a:blip r:embed="rId1"/>
          <a:stretch/>
        </p:blipFill>
        <p:spPr>
          <a:xfrm>
            <a:off x="142920" y="2114640"/>
            <a:ext cx="8858160" cy="262872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19810"/>
          <p:cNvSpPr/>
          <p:nvPr/>
        </p:nvSpPr>
        <p:spPr>
          <a:xfrm>
            <a:off x="8317080" y="21337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18785" descr=""/>
          <p:cNvPicPr/>
          <p:nvPr/>
        </p:nvPicPr>
        <p:blipFill>
          <a:blip r:embed="rId1"/>
          <a:stretch/>
        </p:blipFill>
        <p:spPr>
          <a:xfrm>
            <a:off x="104760" y="1305000"/>
            <a:ext cx="8934480" cy="424800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18786"/>
          <p:cNvSpPr/>
          <p:nvPr/>
        </p:nvSpPr>
        <p:spPr>
          <a:xfrm>
            <a:off x="8317080" y="2997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17761" descr=""/>
          <p:cNvPicPr/>
          <p:nvPr/>
        </p:nvPicPr>
        <p:blipFill>
          <a:blip r:embed="rId1"/>
          <a:stretch/>
        </p:blipFill>
        <p:spPr>
          <a:xfrm>
            <a:off x="204840" y="2000160"/>
            <a:ext cx="8734320" cy="285768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17762"/>
          <p:cNvSpPr/>
          <p:nvPr/>
        </p:nvSpPr>
        <p:spPr>
          <a:xfrm>
            <a:off x="8317080" y="2060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7:52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